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1A91E-5652-4E5E-BD65-7A30448A25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BC99DE8-8EA2-45A3-B9AB-ACEDCFFE8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EFA6CC1-2B04-40A0-AFF7-3ED44554E6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8E963B-7E09-4BF2-A7A9-934161008E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59768A-3CC3-4C51-92C9-30344377E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40AD4B-90F5-4F2C-80E1-CEA9092A5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3405EB-E9BF-4A64-A0BD-E21E3AB0E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5630C0-1029-4DED-9DCB-65DBADA3D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BFB2CFF-654A-4A7C-AD6F-6A3C4527C4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2F7CDE-E0CF-4785-AC7E-E4FEB52D15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FCCC3B-445B-40F1-9B4C-3D8172977C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5A5510-3C61-4D6C-8A47-9042B46F48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AA94-1C5A-4A18-92F9-EA70EEB76C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C23D-F4A6-4957-A981-AF8AF088616E}" type="datetime">
              <a:rPr b="0" lang="zh-CN" sz="1400" spc="-1" strike="noStrike">
                <a:solidFill>
                  <a:srgbClr val="046ca6"/>
                </a:solidFill>
                <a:latin typeface="Times New Roman"/>
                <a:ea typeface="宋体"/>
              </a:rPr>
              <a:t>26/7/28</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29AE-690A-401B-9C29-54841DDEE955}" type="datetime">
              <a:rPr b="0" lang="zh-CN" sz="1400" spc="-1" strike="noStrike">
                <a:solidFill>
                  <a:srgbClr val="046ca6"/>
                </a:solidFill>
                <a:latin typeface="Times New Roman"/>
                <a:ea typeface="宋体"/>
              </a:rPr>
              <a:t>26/7/28</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B50C-3B9B-4D63-9019-6FD913928D13}" type="datetime">
              <a:rPr b="0" lang="zh-CN" sz="1400" spc="-1" strike="noStrike">
                <a:solidFill>
                  <a:srgbClr val="046ca6"/>
                </a:solidFill>
                <a:latin typeface="Times New Roman"/>
                <a:ea typeface="宋体"/>
              </a:rPr>
              <a:t>26/7/28</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